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百分数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539640" y="1773360"/>
            <a:ext cx="58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求百分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（分数、小数化百分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8" descr="6"/>
          <p:cNvPicPr/>
          <p:nvPr/>
        </p:nvPicPr>
        <p:blipFill>
          <a:blip r:embed="rId2"/>
          <a:stretch/>
        </p:blipFill>
        <p:spPr>
          <a:xfrm>
            <a:off x="684360" y="6318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528920" y="3716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44920" y="3932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324000" y="1413000"/>
            <a:ext cx="8893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春雨小学六年级两个班的同学分成男、女生两组进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育达标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情况如下表。哪个班的优秀率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203640" y="4221000"/>
            <a:ext cx="9432720" cy="3521160"/>
            <a:chOff x="3203640" y="4221000"/>
            <a:chExt cx="9432720" cy="3521160"/>
          </a:xfrm>
        </p:grpSpPr>
        <p:sp>
          <p:nvSpPr>
            <p:cNvPr id="255" name="TextBox 21"/>
            <p:cNvSpPr/>
            <p:nvPr/>
          </p:nvSpPr>
          <p:spPr>
            <a:xfrm>
              <a:off x="3203640" y="4221000"/>
              <a:ext cx="9432720" cy="35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得优的男生：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%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9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得优的女生：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0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%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得优的人数：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9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4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总人数：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0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0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优秀率： 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00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8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5405040" y="5684760"/>
              <a:ext cx="515160" cy="778680"/>
              <a:chOff x="5405040" y="5684760"/>
              <a:chExt cx="515160" cy="77868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5840" y="60404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05040" y="5684760"/>
                <a:ext cx="475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63360" y="6103800"/>
                <a:ext cx="360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0" name=""/>
          <p:cNvGraphicFramePr/>
          <p:nvPr/>
        </p:nvGraphicFramePr>
        <p:xfrm>
          <a:off x="1835280" y="2492280"/>
          <a:ext cx="4968720" cy="1585800"/>
        </p:xfrm>
        <a:graphic>
          <a:graphicData uri="http://schemas.openxmlformats.org/drawingml/2006/table">
            <a:tbl>
              <a:tblPr/>
              <a:tblGrid>
                <a:gridCol w="1906560"/>
                <a:gridCol w="765360"/>
                <a:gridCol w="765000"/>
                <a:gridCol w="766800"/>
                <a:gridCol w="765000"/>
              </a:tblGrid>
              <a:tr h="423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六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六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男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女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男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女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参加检测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优秀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-36360" y="5084640"/>
            <a:ext cx="1295280" cy="144000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27"/>
          <p:cNvSpPr/>
          <p:nvPr/>
        </p:nvSpPr>
        <p:spPr>
          <a:xfrm>
            <a:off x="898560" y="4940280"/>
            <a:ext cx="2233440" cy="504720"/>
          </a:xfrm>
          <a:prstGeom prst="wedgeRoundRectCallout">
            <a:avLst>
              <a:gd name="adj1" fmla="val -54476"/>
              <a:gd name="adj2" fmla="val 5377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这样想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TextBox 5"/>
          <p:cNvSpPr/>
          <p:nvPr/>
        </p:nvSpPr>
        <p:spPr>
          <a:xfrm>
            <a:off x="611280" y="2205000"/>
            <a:ext cx="806436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做一做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八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50920" y="1484280"/>
            <a:ext cx="784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别用分数和小数表示出下面各除法算式的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971640" y="249228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÷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971640" y="350028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÷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971640" y="447192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÷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826920" y="5553000"/>
            <a:ext cx="288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÷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4716360" y="2455920"/>
            <a:ext cx="288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÷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4716360" y="3429000"/>
            <a:ext cx="288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÷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4716360" y="4437000"/>
            <a:ext cx="288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÷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4500720" y="547992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÷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907920"/>
            <a:ext cx="1513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50920" y="2305080"/>
            <a:ext cx="1136520" cy="902520"/>
            <a:chOff x="2050920" y="2305080"/>
            <a:chExt cx="1136520" cy="902520"/>
          </a:xfrm>
        </p:grpSpPr>
        <p:sp>
          <p:nvSpPr>
            <p:cNvPr id="55" name=""/>
            <p:cNvSpPr/>
            <p:nvPr/>
          </p:nvSpPr>
          <p:spPr>
            <a:xfrm>
              <a:off x="2050920" y="2674800"/>
              <a:ext cx="504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54160" y="2305080"/>
              <a:ext cx="360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92320" y="2779920"/>
              <a:ext cx="291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27040" y="2482920"/>
              <a:ext cx="860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048040" y="3290760"/>
            <a:ext cx="1136520" cy="902520"/>
            <a:chOff x="2048040" y="3290760"/>
            <a:chExt cx="1136520" cy="902520"/>
          </a:xfrm>
        </p:grpSpPr>
        <p:sp>
          <p:nvSpPr>
            <p:cNvPr id="60" name=""/>
            <p:cNvSpPr/>
            <p:nvPr/>
          </p:nvSpPr>
          <p:spPr>
            <a:xfrm>
              <a:off x="2048040" y="3660480"/>
              <a:ext cx="504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1280" y="3290760"/>
              <a:ext cx="360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89440" y="3765600"/>
              <a:ext cx="291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4160" y="3468600"/>
              <a:ext cx="860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022480" y="4292640"/>
            <a:ext cx="1657440" cy="902520"/>
            <a:chOff x="2022480" y="4292640"/>
            <a:chExt cx="1657440" cy="902520"/>
          </a:xfrm>
        </p:grpSpPr>
        <p:sp>
          <p:nvSpPr>
            <p:cNvPr id="65" name=""/>
            <p:cNvSpPr/>
            <p:nvPr/>
          </p:nvSpPr>
          <p:spPr>
            <a:xfrm>
              <a:off x="2022480" y="4662360"/>
              <a:ext cx="5000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25720" y="4292640"/>
              <a:ext cx="357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63880" y="4767480"/>
              <a:ext cx="288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90680" y="4475160"/>
              <a:ext cx="13892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.3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036880" y="5392800"/>
            <a:ext cx="1930320" cy="893160"/>
            <a:chOff x="2036880" y="5392800"/>
            <a:chExt cx="1930320" cy="893160"/>
          </a:xfrm>
        </p:grpSpPr>
        <p:sp>
          <p:nvSpPr>
            <p:cNvPr id="70" name=""/>
            <p:cNvSpPr/>
            <p:nvPr/>
          </p:nvSpPr>
          <p:spPr>
            <a:xfrm>
              <a:off x="2036880" y="575316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22560" y="539280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9720" y="585000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54480" y="554688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973840" y="2305080"/>
            <a:ext cx="1930320" cy="893160"/>
            <a:chOff x="5973840" y="2305080"/>
            <a:chExt cx="1930320" cy="893160"/>
          </a:xfrm>
        </p:grpSpPr>
        <p:sp>
          <p:nvSpPr>
            <p:cNvPr id="75" name=""/>
            <p:cNvSpPr/>
            <p:nvPr/>
          </p:nvSpPr>
          <p:spPr>
            <a:xfrm>
              <a:off x="5973840" y="266544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59520" y="230508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16680" y="276228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91440" y="245916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.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08760" y="3255840"/>
            <a:ext cx="1930320" cy="893160"/>
            <a:chOff x="6008760" y="3255840"/>
            <a:chExt cx="1930320" cy="893160"/>
          </a:xfrm>
        </p:grpSpPr>
        <p:sp>
          <p:nvSpPr>
            <p:cNvPr id="80" name=""/>
            <p:cNvSpPr/>
            <p:nvPr/>
          </p:nvSpPr>
          <p:spPr>
            <a:xfrm>
              <a:off x="6008760" y="361620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94440" y="325584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51600" y="371304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26360" y="340992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.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983200" y="4259160"/>
            <a:ext cx="1930320" cy="893160"/>
            <a:chOff x="5983200" y="4259160"/>
            <a:chExt cx="1930320" cy="893160"/>
          </a:xfrm>
        </p:grpSpPr>
        <p:sp>
          <p:nvSpPr>
            <p:cNvPr id="85" name=""/>
            <p:cNvSpPr/>
            <p:nvPr/>
          </p:nvSpPr>
          <p:spPr>
            <a:xfrm>
              <a:off x="5983200" y="461952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68880" y="425916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26040" y="471636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00800" y="441324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.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059520" y="5310360"/>
            <a:ext cx="1698480" cy="902520"/>
            <a:chOff x="6059520" y="5310360"/>
            <a:chExt cx="1698480" cy="902520"/>
          </a:xfrm>
        </p:grpSpPr>
        <p:sp>
          <p:nvSpPr>
            <p:cNvPr id="90" name=""/>
            <p:cNvSpPr/>
            <p:nvPr/>
          </p:nvSpPr>
          <p:spPr>
            <a:xfrm>
              <a:off x="6059520" y="568008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40520" y="531036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21440" y="5776920"/>
              <a:ext cx="576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1480" y="5486400"/>
              <a:ext cx="1136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.4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695840" y="33577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6048360" cy="2487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4292640"/>
            <a:ext cx="1557360" cy="172728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332000" y="4292640"/>
            <a:ext cx="5976720" cy="647640"/>
            <a:chOff x="1332000" y="4292640"/>
            <a:chExt cx="5976720" cy="647640"/>
          </a:xfrm>
        </p:grpSpPr>
        <p:sp>
          <p:nvSpPr>
            <p:cNvPr id="99" name="AutoShape 27"/>
            <p:cNvSpPr/>
            <p:nvPr/>
          </p:nvSpPr>
          <p:spPr>
            <a:xfrm>
              <a:off x="1332000" y="4292640"/>
              <a:ext cx="5976720" cy="647640"/>
            </a:xfrm>
            <a:prstGeom prst="wedgeRoundRectCallout">
              <a:avLst>
                <a:gd name="adj1" fmla="val -54435"/>
                <a:gd name="adj2" fmla="val 21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47800" y="4365720"/>
              <a:ext cx="3061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他们两人的命中率分别是多少？谁的命中率高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16" descr="女天使"/>
          <p:cNvPicPr/>
          <p:nvPr/>
        </p:nvPicPr>
        <p:blipFill>
          <a:blip r:embed="rId4"/>
          <a:stretch/>
        </p:blipFill>
        <p:spPr>
          <a:xfrm>
            <a:off x="7020000" y="5084640"/>
            <a:ext cx="1523880" cy="12798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7"/>
          <p:cNvSpPr/>
          <p:nvPr/>
        </p:nvSpPr>
        <p:spPr>
          <a:xfrm>
            <a:off x="2124000" y="5300640"/>
            <a:ext cx="4680000" cy="1008000"/>
          </a:xfrm>
          <a:prstGeom prst="wedgeRoundRectCallout">
            <a:avLst>
              <a:gd name="adj1" fmla="val 55768"/>
              <a:gd name="adj2" fmla="val 1756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中率指的是投中的次数占投篮次数的百分之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549360" y="3716280"/>
            <a:ext cx="40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王涛投篮的命中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540072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08000" y="5157720"/>
            <a:ext cx="129708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7524720" y="4724280"/>
            <a:ext cx="1360440" cy="19447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7"/>
          <p:cNvSpPr/>
          <p:nvPr/>
        </p:nvSpPr>
        <p:spPr>
          <a:xfrm>
            <a:off x="1476360" y="5300640"/>
            <a:ext cx="2519280" cy="1152720"/>
          </a:xfrm>
          <a:prstGeom prst="wedgeRoundRectCallout">
            <a:avLst>
              <a:gd name="adj1" fmla="val -60523"/>
              <a:gd name="adj2" fmla="val -9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先把小数改写成分母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分数，再化成百分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280" y="4184640"/>
            <a:ext cx="3816360" cy="902520"/>
            <a:chOff x="395280" y="4184640"/>
            <a:chExt cx="3816360" cy="902520"/>
          </a:xfrm>
        </p:grpSpPr>
        <p:sp>
          <p:nvSpPr>
            <p:cNvPr id="110" name=""/>
            <p:cNvSpPr/>
            <p:nvPr/>
          </p:nvSpPr>
          <p:spPr>
            <a:xfrm>
              <a:off x="2152800" y="455436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6920" y="418464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14720" y="4651200"/>
              <a:ext cx="57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280" y="4362480"/>
              <a:ext cx="2305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÷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1760" y="4352760"/>
              <a:ext cx="1469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22720" y="4149720"/>
            <a:ext cx="5057640" cy="934560"/>
            <a:chOff x="4122720" y="4149720"/>
            <a:chExt cx="5057640" cy="934560"/>
          </a:xfrm>
        </p:grpSpPr>
        <p:sp>
          <p:nvSpPr>
            <p:cNvPr id="116" name=""/>
            <p:cNvSpPr/>
            <p:nvPr/>
          </p:nvSpPr>
          <p:spPr>
            <a:xfrm>
              <a:off x="7121520" y="451944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02520" y="414972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83440" y="461628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22720" y="4356000"/>
              <a:ext cx="1266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÷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10480" y="4317840"/>
              <a:ext cx="1469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173560" y="4173480"/>
              <a:ext cx="500040" cy="902520"/>
              <a:chOff x="5173560" y="4173480"/>
              <a:chExt cx="500040" cy="902520"/>
            </a:xfrm>
          </p:grpSpPr>
          <p:sp>
            <p:nvSpPr>
              <p:cNvPr id="122" name=""/>
              <p:cNvSpPr/>
              <p:nvPr/>
            </p:nvSpPr>
            <p:spPr>
              <a:xfrm>
                <a:off x="5173560" y="4543200"/>
                <a:ext cx="5000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76800" y="4173480"/>
                <a:ext cx="357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214960" y="4648320"/>
                <a:ext cx="288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460840" y="4317840"/>
              <a:ext cx="503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869080" y="4149720"/>
              <a:ext cx="1176120" cy="934560"/>
              <a:chOff x="5869080" y="4149720"/>
              <a:chExt cx="1176120" cy="93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5869080" y="4149720"/>
                <a:ext cx="1176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×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9080" y="4632480"/>
                <a:ext cx="1007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9080" y="4551480"/>
                <a:ext cx="1176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×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6778440" y="4302000"/>
              <a:ext cx="503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572000" y="5157720"/>
            <a:ext cx="2879640" cy="1521000"/>
            <a:chOff x="4572000" y="5157720"/>
            <a:chExt cx="2879640" cy="1521000"/>
          </a:xfrm>
        </p:grpSpPr>
        <p:sp>
          <p:nvSpPr>
            <p:cNvPr id="132" name="AutoShape 27"/>
            <p:cNvSpPr/>
            <p:nvPr/>
          </p:nvSpPr>
          <p:spPr>
            <a:xfrm>
              <a:off x="4572000" y="5167080"/>
              <a:ext cx="2879640" cy="1511640"/>
            </a:xfrm>
            <a:prstGeom prst="wedgeRoundRectCallout">
              <a:avLst>
                <a:gd name="adj1" fmla="val 57939"/>
                <a:gd name="adj2" fmla="val -27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把       改写成分母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分数，再化成百分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095800" y="5157720"/>
              <a:ext cx="511200" cy="778680"/>
              <a:chOff x="5095800" y="5157720"/>
              <a:chExt cx="511200" cy="778680"/>
            </a:xfrm>
          </p:grpSpPr>
          <p:sp>
            <p:nvSpPr>
              <p:cNvPr id="134" name=""/>
              <p:cNvSpPr/>
              <p:nvPr/>
            </p:nvSpPr>
            <p:spPr>
              <a:xfrm>
                <a:off x="5102280" y="5513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95800" y="5157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11640" y="5576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395280" y="3645000"/>
            <a:ext cx="403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强投篮的命中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76400" y="4041720"/>
            <a:ext cx="4216320" cy="902520"/>
            <a:chOff x="1076400" y="4041720"/>
            <a:chExt cx="4216320" cy="902520"/>
          </a:xfrm>
        </p:grpSpPr>
        <p:sp>
          <p:nvSpPr>
            <p:cNvPr id="140" name=""/>
            <p:cNvSpPr/>
            <p:nvPr/>
          </p:nvSpPr>
          <p:spPr>
            <a:xfrm>
              <a:off x="3122640" y="4411440"/>
              <a:ext cx="978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27400" y="4041720"/>
              <a:ext cx="863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94280" y="4510080"/>
              <a:ext cx="71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76400" y="4235400"/>
              <a:ext cx="2305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÷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667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22840" y="4216320"/>
              <a:ext cx="1469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6.7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783560" y="4508640"/>
            <a:ext cx="13604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4716360" y="4653000"/>
            <a:ext cx="2879640" cy="1843200"/>
            <a:chOff x="4716360" y="4653000"/>
            <a:chExt cx="2879640" cy="1843200"/>
          </a:xfrm>
        </p:grpSpPr>
        <p:sp>
          <p:nvSpPr>
            <p:cNvPr id="147" name="AutoShape 27"/>
            <p:cNvSpPr/>
            <p:nvPr/>
          </p:nvSpPr>
          <p:spPr>
            <a:xfrm>
              <a:off x="4716360" y="4767480"/>
              <a:ext cx="2879640" cy="1728720"/>
            </a:xfrm>
            <a:prstGeom prst="wedgeRoundRectCallout">
              <a:avLst>
                <a:gd name="adj1" fmla="val 55458"/>
                <a:gd name="adj2" fmla="val -182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÷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商如果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表示，它可以直接改写成分母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分数吗？说明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6805440" y="4653000"/>
              <a:ext cx="511200" cy="778680"/>
              <a:chOff x="6805440" y="4653000"/>
              <a:chExt cx="511200" cy="778680"/>
            </a:xfrm>
          </p:grpSpPr>
          <p:sp>
            <p:nvSpPr>
              <p:cNvPr id="149" name=""/>
              <p:cNvSpPr/>
              <p:nvPr/>
            </p:nvSpPr>
            <p:spPr>
              <a:xfrm>
                <a:off x="6811920" y="5008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05440" y="4653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21280" y="50720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27"/>
          <p:cNvSpPr/>
          <p:nvPr/>
        </p:nvSpPr>
        <p:spPr>
          <a:xfrm>
            <a:off x="1619280" y="5445000"/>
            <a:ext cx="2519280" cy="792360"/>
          </a:xfrm>
          <a:prstGeom prst="wedgeRoundRectCallout">
            <a:avLst>
              <a:gd name="adj1" fmla="val -57499"/>
              <a:gd name="adj2" fmla="val 2875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除不尽时，通常保留三位小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男天使副本"/>
          <p:cNvPicPr/>
          <p:nvPr/>
        </p:nvPicPr>
        <p:blipFill>
          <a:blip r:embed="rId3"/>
          <a:stretch/>
        </p:blipFill>
        <p:spPr>
          <a:xfrm>
            <a:off x="0" y="5300640"/>
            <a:ext cx="1476360" cy="1370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403280" y="1484280"/>
            <a:ext cx="5400720" cy="222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411280" y="4724280"/>
            <a:ext cx="216000" cy="649440"/>
          </a:xfrm>
          <a:prstGeom prst="upArrow">
            <a:avLst>
              <a:gd name="adj1" fmla="val 50000"/>
              <a:gd name="adj2" fmla="val 751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0" descr="男天使副本"/>
          <p:cNvPicPr/>
          <p:nvPr/>
        </p:nvPicPr>
        <p:blipFill>
          <a:blip r:embed="rId5"/>
          <a:stretch/>
        </p:blipFill>
        <p:spPr>
          <a:xfrm>
            <a:off x="0" y="5300640"/>
            <a:ext cx="1476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1297080" cy="1440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7"/>
          <p:cNvSpPr/>
          <p:nvPr/>
        </p:nvSpPr>
        <p:spPr>
          <a:xfrm>
            <a:off x="1403280" y="1628640"/>
            <a:ext cx="4681440" cy="505080"/>
          </a:xfrm>
          <a:prstGeom prst="wedgeRoundRectCallout">
            <a:avLst>
              <a:gd name="adj1" fmla="val -55865"/>
              <a:gd name="adj2" fmla="val 2138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，怎样把小数化成百分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6" descr="女天使"/>
          <p:cNvPicPr/>
          <p:nvPr/>
        </p:nvPicPr>
        <p:blipFill>
          <a:blip r:embed="rId3"/>
          <a:stretch/>
        </p:blipFill>
        <p:spPr>
          <a:xfrm>
            <a:off x="7236000" y="220500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7"/>
          <p:cNvSpPr/>
          <p:nvPr/>
        </p:nvSpPr>
        <p:spPr>
          <a:xfrm>
            <a:off x="1619280" y="2421000"/>
            <a:ext cx="5329080" cy="1728720"/>
          </a:xfrm>
          <a:prstGeom prst="wedgeRoundRectCallout">
            <a:avLst>
              <a:gd name="adj1" fmla="val 56402"/>
              <a:gd name="adj2" fmla="val -272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把小数化成分母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分数，然后再把它写成百分数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可以把小数的小数点向右移动两位，位数不够时，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补足，同时在后面加上百分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7236000" y="4149720"/>
            <a:ext cx="1360440" cy="19447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7"/>
          <p:cNvSpPr/>
          <p:nvPr/>
        </p:nvSpPr>
        <p:spPr>
          <a:xfrm>
            <a:off x="3708360" y="4437000"/>
            <a:ext cx="3600360" cy="503280"/>
          </a:xfrm>
          <a:prstGeom prst="wedgeRoundRectCallout">
            <a:avLst>
              <a:gd name="adj1" fmla="val 55777"/>
              <a:gd name="adj2" fmla="val 962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怎样把分数化成百分数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男天使副本"/>
          <p:cNvPicPr/>
          <p:nvPr/>
        </p:nvPicPr>
        <p:blipFill>
          <a:blip r:embed="rId5"/>
          <a:stretch/>
        </p:blipFill>
        <p:spPr>
          <a:xfrm>
            <a:off x="250920" y="4941720"/>
            <a:ext cx="1476360" cy="137016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27"/>
          <p:cNvSpPr/>
          <p:nvPr/>
        </p:nvSpPr>
        <p:spPr>
          <a:xfrm>
            <a:off x="1835280" y="5229360"/>
            <a:ext cx="5329080" cy="1368360"/>
          </a:xfrm>
          <a:prstGeom prst="wedgeRoundRectCallout">
            <a:avLst>
              <a:gd name="adj1" fmla="val -54587"/>
              <a:gd name="adj2" fmla="val -269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把分数化成分母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分数，然后再写成百分数形式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把分数化成小数，再化成百分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35280" y="1557360"/>
            <a:ext cx="5687640" cy="834120"/>
            <a:chOff x="1835280" y="1557360"/>
            <a:chExt cx="5687640" cy="834120"/>
          </a:xfrm>
        </p:grpSpPr>
        <p:sp>
          <p:nvSpPr>
            <p:cNvPr id="168" name="矩形 9"/>
            <p:cNvSpPr/>
            <p:nvPr/>
          </p:nvSpPr>
          <p:spPr>
            <a:xfrm>
              <a:off x="1835280" y="1754280"/>
              <a:ext cx="1231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出勤率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0"/>
            <p:cNvSpPr/>
            <p:nvPr/>
          </p:nvSpPr>
          <p:spPr>
            <a:xfrm>
              <a:off x="3035520" y="1557360"/>
              <a:ext cx="2659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出勤的学生人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1"/>
            <p:cNvSpPr/>
            <p:nvPr/>
          </p:nvSpPr>
          <p:spPr>
            <a:xfrm>
              <a:off x="3291120" y="1968480"/>
              <a:ext cx="1995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学生总人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2"/>
            <p:cNvSpPr/>
            <p:nvPr/>
          </p:nvSpPr>
          <p:spPr>
            <a:xfrm>
              <a:off x="5084640" y="1790640"/>
              <a:ext cx="2438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14"/>
            <p:cNvSpPr/>
            <p:nvPr/>
          </p:nvSpPr>
          <p:spPr>
            <a:xfrm>
              <a:off x="3090960" y="2041560"/>
              <a:ext cx="19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062800" y="2492280"/>
            <a:ext cx="5174640" cy="840600"/>
            <a:chOff x="2062800" y="2492280"/>
            <a:chExt cx="5174640" cy="840600"/>
          </a:xfrm>
        </p:grpSpPr>
        <p:sp>
          <p:nvSpPr>
            <p:cNvPr id="174" name="矩形 9"/>
            <p:cNvSpPr/>
            <p:nvPr/>
          </p:nvSpPr>
          <p:spPr>
            <a:xfrm>
              <a:off x="2062800" y="2684520"/>
              <a:ext cx="729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发芽率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0"/>
            <p:cNvSpPr/>
            <p:nvPr/>
          </p:nvSpPr>
          <p:spPr>
            <a:xfrm>
              <a:off x="2845080" y="2492280"/>
              <a:ext cx="2593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1"/>
            <p:cNvSpPr/>
            <p:nvPr/>
          </p:nvSpPr>
          <p:spPr>
            <a:xfrm>
              <a:off x="2843280" y="2909880"/>
              <a:ext cx="259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      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2"/>
            <p:cNvSpPr/>
            <p:nvPr/>
          </p:nvSpPr>
          <p:spPr>
            <a:xfrm>
              <a:off x="4859640" y="2700360"/>
              <a:ext cx="237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14"/>
            <p:cNvSpPr/>
            <p:nvPr/>
          </p:nvSpPr>
          <p:spPr>
            <a:xfrm>
              <a:off x="2981520" y="2963880"/>
              <a:ext cx="194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73600" y="3500280"/>
            <a:ext cx="5167080" cy="840600"/>
            <a:chOff x="2073600" y="3500280"/>
            <a:chExt cx="5167080" cy="840600"/>
          </a:xfrm>
        </p:grpSpPr>
        <p:sp>
          <p:nvSpPr>
            <p:cNvPr id="180" name="矩形 9"/>
            <p:cNvSpPr/>
            <p:nvPr/>
          </p:nvSpPr>
          <p:spPr>
            <a:xfrm>
              <a:off x="2073600" y="3692520"/>
              <a:ext cx="729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合格率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0"/>
            <p:cNvSpPr/>
            <p:nvPr/>
          </p:nvSpPr>
          <p:spPr>
            <a:xfrm>
              <a:off x="2849760" y="3500280"/>
              <a:ext cx="259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1"/>
            <p:cNvSpPr/>
            <p:nvPr/>
          </p:nvSpPr>
          <p:spPr>
            <a:xfrm>
              <a:off x="2849760" y="3917880"/>
              <a:ext cx="2590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      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2"/>
            <p:cNvSpPr/>
            <p:nvPr/>
          </p:nvSpPr>
          <p:spPr>
            <a:xfrm>
              <a:off x="4864320" y="3708360"/>
              <a:ext cx="2376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14"/>
            <p:cNvSpPr/>
            <p:nvPr/>
          </p:nvSpPr>
          <p:spPr>
            <a:xfrm>
              <a:off x="2987640" y="3971880"/>
              <a:ext cx="194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062800" y="4437000"/>
            <a:ext cx="5169960" cy="840600"/>
            <a:chOff x="2062800" y="4437000"/>
            <a:chExt cx="5169960" cy="840600"/>
          </a:xfrm>
        </p:grpSpPr>
        <p:sp>
          <p:nvSpPr>
            <p:cNvPr id="186" name="矩形 9"/>
            <p:cNvSpPr/>
            <p:nvPr/>
          </p:nvSpPr>
          <p:spPr>
            <a:xfrm>
              <a:off x="2062800" y="4629240"/>
              <a:ext cx="729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出粉率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>
              <a:off x="2841840" y="4437000"/>
              <a:ext cx="259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       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1"/>
            <p:cNvSpPr/>
            <p:nvPr/>
          </p:nvSpPr>
          <p:spPr>
            <a:xfrm>
              <a:off x="2841840" y="4854600"/>
              <a:ext cx="2590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      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2"/>
            <p:cNvSpPr/>
            <p:nvPr/>
          </p:nvSpPr>
          <p:spPr>
            <a:xfrm>
              <a:off x="4856400" y="4645080"/>
              <a:ext cx="2376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14"/>
            <p:cNvSpPr/>
            <p:nvPr/>
          </p:nvSpPr>
          <p:spPr>
            <a:xfrm>
              <a:off x="2979720" y="4908600"/>
              <a:ext cx="194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062800" y="5433840"/>
            <a:ext cx="5169960" cy="840600"/>
            <a:chOff x="2062800" y="5433840"/>
            <a:chExt cx="5169960" cy="840600"/>
          </a:xfrm>
        </p:grpSpPr>
        <p:sp>
          <p:nvSpPr>
            <p:cNvPr id="192" name="矩形 9"/>
            <p:cNvSpPr/>
            <p:nvPr/>
          </p:nvSpPr>
          <p:spPr>
            <a:xfrm>
              <a:off x="2062800" y="5626080"/>
              <a:ext cx="729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成活率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2841840" y="5433840"/>
              <a:ext cx="259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       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11"/>
            <p:cNvSpPr/>
            <p:nvPr/>
          </p:nvSpPr>
          <p:spPr>
            <a:xfrm>
              <a:off x="2841840" y="5851440"/>
              <a:ext cx="2590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      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2"/>
            <p:cNvSpPr/>
            <p:nvPr/>
          </p:nvSpPr>
          <p:spPr>
            <a:xfrm>
              <a:off x="4856400" y="5641920"/>
              <a:ext cx="2376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14"/>
            <p:cNvSpPr/>
            <p:nvPr/>
          </p:nvSpPr>
          <p:spPr>
            <a:xfrm>
              <a:off x="2979720" y="5905440"/>
              <a:ext cx="194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537360" y="2924280"/>
            <a:ext cx="92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实验种子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65360" y="3490920"/>
            <a:ext cx="100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合格的产品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74720" y="2492280"/>
            <a:ext cx="100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发芽的种子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91360" y="3933720"/>
            <a:ext cx="729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产品总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2800" y="4437000"/>
            <a:ext cx="86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面粉的质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2800" y="4843440"/>
            <a:ext cx="86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小麦的质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8760" y="5419800"/>
            <a:ext cx="86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成活的棵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12520" y="5877000"/>
            <a:ext cx="86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栽种的棵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8920" y="3716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324000" y="1413000"/>
            <a:ext cx="734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下面的小数和分数改成百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971640" y="2637000"/>
            <a:ext cx="216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971640" y="3789360"/>
            <a:ext cx="129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900000" y="4840200"/>
            <a:ext cx="144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1936800" y="2608200"/>
            <a:ext cx="180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9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1973160" y="3780000"/>
            <a:ext cx="1546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1973160" y="4826160"/>
            <a:ext cx="1762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0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5724360" y="2565360"/>
            <a:ext cx="180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5724360" y="3751200"/>
            <a:ext cx="180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2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5651640" y="4917960"/>
            <a:ext cx="216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6.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186160" y="2349360"/>
            <a:ext cx="392400" cy="1097640"/>
            <a:chOff x="5186160" y="2349360"/>
            <a:chExt cx="392400" cy="1097640"/>
          </a:xfrm>
        </p:grpSpPr>
        <p:sp>
          <p:nvSpPr>
            <p:cNvPr id="218" name=""/>
            <p:cNvSpPr/>
            <p:nvPr/>
          </p:nvSpPr>
          <p:spPr>
            <a:xfrm>
              <a:off x="5186160" y="234936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14960" y="2921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95880" y="280512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268600" y="3529080"/>
            <a:ext cx="392400" cy="1097640"/>
            <a:chOff x="5268600" y="3529080"/>
            <a:chExt cx="392400" cy="1097640"/>
          </a:xfrm>
        </p:grpSpPr>
        <p:sp>
          <p:nvSpPr>
            <p:cNvPr id="222" name=""/>
            <p:cNvSpPr/>
            <p:nvPr/>
          </p:nvSpPr>
          <p:spPr>
            <a:xfrm>
              <a:off x="5268600" y="352908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97400" y="41007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78320" y="398484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22600" y="4700520"/>
            <a:ext cx="392400" cy="1097640"/>
            <a:chOff x="5322600" y="4700520"/>
            <a:chExt cx="392400" cy="1097640"/>
          </a:xfrm>
        </p:grpSpPr>
        <p:sp>
          <p:nvSpPr>
            <p:cNvPr id="226" name=""/>
            <p:cNvSpPr/>
            <p:nvPr/>
          </p:nvSpPr>
          <p:spPr>
            <a:xfrm>
              <a:off x="5322600" y="47005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51400" y="52722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2320" y="515628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528920" y="3716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324000" y="1413000"/>
            <a:ext cx="90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榨油厂的李叔叔告诉小静：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花生仁能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花生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”这些花生的出油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0" descr="男天使副本"/>
          <p:cNvPicPr/>
          <p:nvPr/>
        </p:nvPicPr>
        <p:blipFill>
          <a:blip r:embed="rId2"/>
          <a:stretch/>
        </p:blipFill>
        <p:spPr>
          <a:xfrm>
            <a:off x="324000" y="2637000"/>
            <a:ext cx="1476360" cy="13698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1908000" y="2708280"/>
            <a:ext cx="5903640" cy="1008000"/>
            <a:chOff x="1908000" y="2708280"/>
            <a:chExt cx="5903640" cy="1008000"/>
          </a:xfrm>
        </p:grpSpPr>
        <p:sp>
          <p:nvSpPr>
            <p:cNvPr id="234" name="AutoShape 27"/>
            <p:cNvSpPr/>
            <p:nvPr/>
          </p:nvSpPr>
          <p:spPr>
            <a:xfrm>
              <a:off x="1908000" y="2708280"/>
              <a:ext cx="4751280" cy="1008000"/>
            </a:xfrm>
            <a:prstGeom prst="wedgeRoundRectCallout">
              <a:avLst>
                <a:gd name="adj1" fmla="val -55782"/>
                <a:gd name="adj2" fmla="val -142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124000" y="2717640"/>
              <a:ext cx="5687640" cy="834120"/>
              <a:chOff x="2124000" y="2717640"/>
              <a:chExt cx="5687640" cy="834120"/>
            </a:xfrm>
          </p:grpSpPr>
          <p:sp>
            <p:nvSpPr>
              <p:cNvPr id="236" name="矩形 9"/>
              <p:cNvSpPr/>
              <p:nvPr/>
            </p:nvSpPr>
            <p:spPr>
              <a:xfrm>
                <a:off x="2124000" y="2914560"/>
                <a:ext cx="1231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出油率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10"/>
              <p:cNvSpPr/>
              <p:nvPr/>
            </p:nvSpPr>
            <p:spPr>
              <a:xfrm>
                <a:off x="3324240" y="2717640"/>
                <a:ext cx="265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油的质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Box 11"/>
              <p:cNvSpPr/>
              <p:nvPr/>
            </p:nvSpPr>
            <p:spPr>
              <a:xfrm>
                <a:off x="3579840" y="3128760"/>
                <a:ext cx="1995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花生的质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12"/>
              <p:cNvSpPr/>
              <p:nvPr/>
            </p:nvSpPr>
            <p:spPr>
              <a:xfrm>
                <a:off x="5373360" y="2950920"/>
                <a:ext cx="2438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14"/>
              <p:cNvSpPr/>
              <p:nvPr/>
            </p:nvSpPr>
            <p:spPr>
              <a:xfrm>
                <a:off x="3379680" y="3201840"/>
                <a:ext cx="1995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2843280" y="3789360"/>
            <a:ext cx="2808360" cy="2063520"/>
            <a:chOff x="2843280" y="3789360"/>
            <a:chExt cx="2808360" cy="2063520"/>
          </a:xfrm>
        </p:grpSpPr>
        <p:sp>
          <p:nvSpPr>
            <p:cNvPr id="242" name=""/>
            <p:cNvSpPr/>
            <p:nvPr/>
          </p:nvSpPr>
          <p:spPr>
            <a:xfrm>
              <a:off x="3966480" y="3995640"/>
              <a:ext cx="365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843280" y="3789360"/>
              <a:ext cx="2808360" cy="2063520"/>
              <a:chOff x="2843280" y="3789360"/>
              <a:chExt cx="2808360" cy="206352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3137400" y="3789360"/>
                <a:ext cx="887760" cy="1017360"/>
                <a:chOff x="3137400" y="3789360"/>
                <a:chExt cx="887760" cy="10173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196440" y="3789360"/>
                  <a:ext cx="7110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Arial"/>
                    </a:rPr>
                    <a:t>760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137400" y="4255920"/>
                  <a:ext cx="8877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Arial"/>
                    </a:rPr>
                    <a:t>2000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200400" y="4317840"/>
                  <a:ext cx="7048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4160880" y="4003560"/>
                <a:ext cx="1490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100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%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43280" y="4797360"/>
                <a:ext cx="2612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0000"/>
                    </a:solidFill>
                    <a:latin typeface="Arial"/>
                  </a:rPr>
                  <a:t>＝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0.38×100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%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843280" y="5302080"/>
                <a:ext cx="2612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0000"/>
                    </a:solidFill>
                    <a:latin typeface="Arial"/>
                  </a:rPr>
                  <a:t>＝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38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%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2268360" y="5950080"/>
            <a:ext cx="55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这些花生的出油率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8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33:4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